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097-6FC7-48D4-8B1D-39504931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824-196E-45F2-A1D1-36304726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1B4-DE8C-420A-A6F5-2950B1D6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D80-FDC9-40BA-8A60-40ECF4318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C65B-6B15-4DB7-AFE8-DEC34BD1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70C-E720-4ED2-B117-1E736BF0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EAE-35F2-4B27-8652-AFE8D5D9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28D-4353-448A-B7E4-99223531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1FB-E10E-4065-A9D6-5B47565B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C91-B4B3-4D95-9A66-2E5BFECB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0C31-52DB-4FFE-AFE3-C42A35D4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1A3C-9835-43C4-B8A3-D407EBDD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F9FD-41B1-4E3A-BD51-C00428B24D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28600"/>
            <a:ext cx="266688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ت يديك وضعهما في جرحي وكن مؤمناً   هات يديك هات يديك أبني بهما العالم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04920" y="228600"/>
            <a:ext cx="3505320" cy="9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يداي تبحثان عنك في الزهور والنور والناس خذني دلّني إليك متى تُشرق ونراكَ وجهاً وجهاً لوجهٍ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8600"/>
            <a:ext cx="266688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ت يديك وضعهما في جرحي وكن مؤمناً   هات يديك هات يديك أبني بهما العالم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304920" y="228600"/>
            <a:ext cx="3505320" cy="10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يداي تبحثان عنك بالرسمِ والنحت والشعر والنقرِ على الأوتار متى تُشرق مِن عتمة يديَّ </a:t>
            </a:r>
            <a:r>
              <a:rPr b="1" lang="ar-SA" sz="4800" spc="-1" strike="noStrike">
                <a:solidFill>
                  <a:srgbClr val="ffcccc"/>
                </a:solidFill>
                <a:latin typeface="Arial"/>
              </a:rPr>
              <a:t>تُشرق مِن عتمة يديَّ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28600"/>
            <a:ext cx="2666880" cy="11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cccc"/>
                </a:solidFill>
                <a:latin typeface="Times New Roman"/>
                <a:cs typeface="Arabic Transparent"/>
              </a:rPr>
              <a:t>هات يديك وضعهما في جرحي وكن مؤمناً   هات يديك هات يديك أبني بهما العالم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4:05:35Z</dcterms:created>
  <dc:creator>HANI SAFI</dc:creator>
  <dc:description/>
  <dc:language>en-US</dc:language>
  <cp:lastModifiedBy>HANI SAFI</cp:lastModifiedBy>
  <dcterms:modified xsi:type="dcterms:W3CDTF">2003-04-25T04:26:15Z</dcterms:modified>
  <cp:revision>1</cp:revision>
  <dc:subject/>
  <dc:title>Slide 1</dc:title>
</cp:coreProperties>
</file>